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AD8-D845-4DC1-8E93-9CD7CB8A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BD4-FD77-4FAC-9643-AD09741B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EEB-852B-487C-AACE-D3A66F19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EFE-897B-4543-86E2-25E56047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6C6E-AE80-4B62-B97F-EEBA4DFD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40C-E247-477F-95BB-274E48E6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C1F-5054-466C-B6DB-AEBF9636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B7B-2A67-40DF-B66B-4F7870B8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D4E-09A8-4FE7-A672-8F6A0C5F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4D3-7D5E-4B58-A14F-45C831A3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46F4-01C9-4C76-9F7A-0DE652E6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9F0-15E2-4F96-A49F-9AD53DEF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7AC5-B45D-4964-B36D-3C4FB2922CB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5:17Z</dcterms:modified>
  <cp:revision>268</cp:revision>
  <dc:subject/>
  <dc:title>Top-Down Parsing</dc:title>
</cp:coreProperties>
</file>